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57A-B942-4880-86C2-62E94D54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D3A-FBBC-49B5-B74B-FB318973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A93-6F9F-4266-BD5A-FA7A39BB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9D4-1254-49CB-B922-BB56EC58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283-7E24-4AE1-87B2-932C370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C41-4185-4CBE-85AF-5F6209F7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AD3-F892-4CF3-9D2F-7CA3C4E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B69-3848-45FF-BB10-7186F6DB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C57-A96C-4E8E-A6A6-0533600D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440-B181-4BEB-A01C-FEB1AE8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863-D1D3-4860-BB64-32E1DB3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104-0E5B-4303-919D-AD86A06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5078-B986-4C4D-8F32-EE00A1F7B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scension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37840" y="458640"/>
            <a:ext cx="4888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نّم هللويا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بّح ومجد إسم الرب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 حياتي يا يس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طلبوا الربَّ تجدو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هو الرب الشاف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3:37Z</dcterms:modified>
  <cp:revision>1</cp:revision>
  <dc:subject/>
  <dc:title>PowerPoint Presentation</dc:title>
</cp:coreProperties>
</file>